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6F3-72CC-46D3-8913-CC84C936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35A-84EF-47EB-B899-396A5902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C58-B7C6-472B-8E7C-C51C5548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BA2-B325-4795-9D6F-9EBE1786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644-9014-430D-B348-1FB41D3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F8F-43A0-4660-95B7-6F028E4D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7BF-EBCF-499F-A28E-3711537D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15E-AF6B-4820-B66A-7AC1EA8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0D8-5157-43A2-B8EF-0934B50D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44E-2F7F-4150-8E8A-B6AA888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1AA-FBE1-40A9-AD90-342287E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3B1-0044-4F79-BE42-72AB109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5B2D-5F23-4340-BD44-06FFC6EC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roper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700280"/>
            <a:ext cx="28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773360"/>
            <a:ext cx="3672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m, 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torua, 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ra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hn Paul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3213000"/>
            <a:ext cx="57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name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of people and p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941720"/>
            <a:ext cx="59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Feels important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better give it a capit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1:38:12Z</dcterms:modified>
  <cp:revision>12</cp:revision>
  <dc:subject/>
  <dc:title>Simile</dc:title>
</cp:coreProperties>
</file>